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2428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2428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0080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16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ftr" idx="3"/>
          </p:nvPr>
        </p:nvSpPr>
        <p:spPr>
          <a:xfrm>
            <a:off x="-360" y="8832600"/>
            <a:ext cx="292428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 type="sldNum" idx="4"/>
          </p:nvPr>
        </p:nvSpPr>
        <p:spPr>
          <a:xfrm>
            <a:off x="3885840" y="8832600"/>
            <a:ext cx="292428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58E53-A5A2-4BD6-90E2-ED568D9B38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10484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04840" y="69840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7DC4-6AFD-45CC-833E-B0E7C442E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4720" y="379080"/>
            <a:ext cx="635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4720" y="1447560"/>
            <a:ext cx="635472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4720" y="3169800"/>
            <a:ext cx="635472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BF06-1BEA-4139-91A8-F29714FDB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4720" y="379080"/>
            <a:ext cx="635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4720" y="1447560"/>
            <a:ext cx="310104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1280" y="1447560"/>
            <a:ext cx="310104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4720" y="3169800"/>
            <a:ext cx="310104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1280" y="3169800"/>
            <a:ext cx="310104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0577A-019B-450A-B0AC-F49EC7745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4720" y="379080"/>
            <a:ext cx="635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4720" y="1447560"/>
            <a:ext cx="204588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3200" y="1447560"/>
            <a:ext cx="204588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1680" y="1447560"/>
            <a:ext cx="204588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4720" y="3169800"/>
            <a:ext cx="204588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3200" y="3169800"/>
            <a:ext cx="204588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1680" y="3169800"/>
            <a:ext cx="204588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96111-5FD2-4BFE-89EA-E501339B8B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4720" y="379080"/>
            <a:ext cx="635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4720" y="1447560"/>
            <a:ext cx="63547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01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B12D-9010-471C-9739-EAE7FDCF8C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4720" y="379080"/>
            <a:ext cx="635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4720" y="1447560"/>
            <a:ext cx="635472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9FA2-AD45-4893-AB13-10F27F02B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4720" y="379080"/>
            <a:ext cx="635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4720" y="1447560"/>
            <a:ext cx="310104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1280" y="1447560"/>
            <a:ext cx="310104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F2F4-E3D5-4FC2-8BC9-5BA94A869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4720" y="379080"/>
            <a:ext cx="635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B1D5-2B16-471A-9565-D46176B73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4720" y="379080"/>
            <a:ext cx="6354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013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634E-C706-47DB-8199-569B2F932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4720" y="379080"/>
            <a:ext cx="635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4720" y="1447560"/>
            <a:ext cx="310104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1280" y="1447560"/>
            <a:ext cx="310104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4720" y="3169800"/>
            <a:ext cx="310104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6119F-4680-4AE9-9518-C4AC65D55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4720" y="379080"/>
            <a:ext cx="635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4720" y="1447560"/>
            <a:ext cx="310104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1280" y="1447560"/>
            <a:ext cx="310104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1280" y="3169800"/>
            <a:ext cx="310104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21D8-A4BF-4136-9D3F-158356253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4720" y="379080"/>
            <a:ext cx="635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4720" y="1447560"/>
            <a:ext cx="310104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1280" y="1447560"/>
            <a:ext cx="310104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4720" y="3169800"/>
            <a:ext cx="635472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A1F3-2550-4EFE-A5E9-FC5635C25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4720" y="379080"/>
            <a:ext cx="635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74720" y="1447560"/>
            <a:ext cx="635472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-114480">
              <a:lnSpc>
                <a:spcPct val="1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27080">
              <a:lnSpc>
                <a:spcPct val="1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0560" indent="-104760">
              <a:lnSpc>
                <a:spcPct val="1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23840">
              <a:lnSpc>
                <a:spcPct val="1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3760" indent="-92160">
              <a:lnSpc>
                <a:spcPct val="1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63760" indent="-92160">
              <a:lnSpc>
                <a:spcPct val="1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63760" indent="-92160">
              <a:lnSpc>
                <a:spcPct val="1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29240" y="5803920"/>
            <a:ext cx="638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GB" sz="2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FC747-C17E-4B2E-B2D2-BDF19DD92B64}" type="slidenum"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79132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1492200"/>
            <a:ext cx="777240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Comic Sans MS"/>
              </a:rPr>
              <a:t>Propagation d’épidémie</a:t>
            </a: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3600"/>
            </a:b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la Rougeole à l'Unil-EPFL</a:t>
            </a: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95520" y="3600360"/>
            <a:ext cx="6864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perviseur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ha Her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tudiants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uno Pais &amp; Didier Langue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9 mai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5734080"/>
            <a:ext cx="1584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101080" y="5805360"/>
            <a:ext cx="863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B938-E81F-49EB-84EC-7F617989269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49440" y="5759280"/>
            <a:ext cx="1511280" cy="7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87280" y="1440000"/>
            <a:ext cx="69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 indent="-303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e système dynamique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(dans le cas où on se trouve à l'Unil)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dS/dt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= -r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(t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(t) </a:t>
            </a:r>
            <a:r>
              <a:rPr b="0" lang="en-GB" sz="1800" spc="-1" strike="noStrike">
                <a:solidFill>
                  <a:srgbClr val="ff00ff"/>
                </a:solidFill>
                <a:latin typeface="Comic Sans MS"/>
              </a:rPr>
              <a:t>+ s · (S</a:t>
            </a:r>
            <a:r>
              <a:rPr b="0" lang="en-GB" sz="1200" spc="-1" strike="noStrike">
                <a:solidFill>
                  <a:srgbClr val="ff00ff"/>
                </a:solidFill>
                <a:latin typeface="Comic Sans MS"/>
              </a:rPr>
              <a:t>EPFL</a:t>
            </a:r>
            <a:r>
              <a:rPr b="0" lang="en-GB" sz="1800" spc="-1" strike="noStrike">
                <a:solidFill>
                  <a:srgbClr val="ff00ff"/>
                </a:solidFill>
                <a:latin typeface="Comic Sans MS"/>
              </a:rPr>
              <a:t>(t)-S(t)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6633"/>
                </a:solidFill>
                <a:latin typeface="Comic Sans MS"/>
              </a:rPr>
              <a:t>– u · v · S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dI/dt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= r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(t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(t) - 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(t) </a:t>
            </a:r>
            <a:r>
              <a:rPr b="0" lang="en-GB" sz="1800" spc="-1" strike="noStrike">
                <a:solidFill>
                  <a:srgbClr val="ff00ff"/>
                </a:solidFill>
                <a:latin typeface="Comic Sans MS"/>
              </a:rPr>
              <a:t>+ s · (I</a:t>
            </a:r>
            <a:r>
              <a:rPr b="0" lang="en-GB" sz="1200" spc="-1" strike="noStrike">
                <a:solidFill>
                  <a:srgbClr val="ff00ff"/>
                </a:solidFill>
                <a:latin typeface="Comic Sans MS"/>
              </a:rPr>
              <a:t>EPFL</a:t>
            </a:r>
            <a:r>
              <a:rPr b="0" lang="en-GB" sz="1800" spc="-1" strike="noStrike">
                <a:solidFill>
                  <a:srgbClr val="ff00ff"/>
                </a:solidFill>
                <a:latin typeface="Comic Sans MS"/>
              </a:rPr>
              <a:t>(t)-I(t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9900"/>
                </a:solidFill>
                <a:latin typeface="Comic Sans MS"/>
              </a:rPr>
              <a:t>dR/dt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= 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(t) </a:t>
            </a:r>
            <a:r>
              <a:rPr b="0" lang="en-GB" sz="1800" spc="-1" strike="noStrike">
                <a:solidFill>
                  <a:srgbClr val="ff00ff"/>
                </a:solidFill>
                <a:latin typeface="Comic Sans MS"/>
              </a:rPr>
              <a:t>+ s · (R</a:t>
            </a:r>
            <a:r>
              <a:rPr b="0" lang="en-GB" sz="1200" spc="-1" strike="noStrike">
                <a:solidFill>
                  <a:srgbClr val="ff00ff"/>
                </a:solidFill>
                <a:latin typeface="Comic Sans MS"/>
              </a:rPr>
              <a:t>EPFL</a:t>
            </a:r>
            <a:r>
              <a:rPr b="0" lang="en-GB" sz="1800" spc="-1" strike="noStrike">
                <a:solidFill>
                  <a:srgbClr val="ff00ff"/>
                </a:solidFill>
                <a:latin typeface="Comic Sans MS"/>
              </a:rPr>
              <a:t>(t)-R(t)) </a:t>
            </a:r>
            <a:r>
              <a:rPr b="0" lang="en-GB" sz="1800" spc="-1" strike="noStrike">
                <a:solidFill>
                  <a:srgbClr val="ff6633"/>
                </a:solidFill>
                <a:latin typeface="Comic Sans MS"/>
              </a:rPr>
              <a:t>+ u · v · S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3600360"/>
            <a:ext cx="360036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Les paramèt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r :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aux de contag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 :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aux de mise en quarant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 :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flux de personnes qui transi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entre les 2 s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 :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95% d'efficacité du vacc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v :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aux de personnes vaccinées par j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79640" y="1800360"/>
            <a:ext cx="252360" cy="1620720"/>
          </a:xfrm>
          <a:custGeom>
            <a:avLst/>
            <a:gdLst>
              <a:gd name="textAreaLeft" fmla="*/ 161280 w 252360"/>
              <a:gd name="textAreaRight" fmla="*/ 252720 w 252360"/>
              <a:gd name="textAreaTop" fmla="*/ 42120 h 1620720"/>
              <a:gd name="textAreaBottom" fmla="*/ 1578600 h 16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4720" y="379440"/>
            <a:ext cx="63946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e modèle amélior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Données acquise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040360" cy="4130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49440" y="5759280"/>
            <a:ext cx="1511280" cy="7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5813280"/>
            <a:ext cx="536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Données fournies par le médecin cant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559640" y="4140360"/>
            <a:ext cx="1028880" cy="10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0720" y="345960"/>
            <a:ext cx="79200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Méthodologie</a:t>
            </a:r>
            <a:r>
              <a:rPr b="0" lang="en-GB" sz="37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5734080"/>
            <a:ext cx="165564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4720" y="1440000"/>
            <a:ext cx="639468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oix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space clos, divisé en 2 sites avec fl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tervalle de temps = 7sema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ne semaine = 7 jours de c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n dose suffit pour être vacci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ériode d'incubation nu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-6 jours pour être mis en quaranta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niquement les 10% initialement non vaccinées sont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is en compte dans notre modè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 = Flux (Unil -&gt; EPFL) = Flux (EPFL -&gt; Uni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.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se en quarantaine = guérison, donc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= taux de guérison = taux de mise en quaranta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0720" y="345960"/>
            <a:ext cx="79200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Méthodologie 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5734080"/>
            <a:ext cx="165564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60360" y="1447920"/>
            <a:ext cx="720108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ditions initial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. Durée de la campagne 19 jours à partir de la 3ème sema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. Nombre de personnes non-vaccinées S(t)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(t=0) = 2500 dont 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00 (Uni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100 (EPF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. Nombre de personnes infectées I(t) et immunisées R(t)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(t=0) = 2 et R(t=0)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Nombre total de personnes vaccinées = 1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Nombre total d'infectés = 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Optimisation des paramètre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18920" y="1537920"/>
            <a:ext cx="638820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alcul de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ne personne contagieuse sera détectée et m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quarantaine en moyenne 5-6 jours après inf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e taux de guérison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est donc d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2/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(approxim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cherche de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avec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fix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n recherche les valeurs les plus proch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 réalité à l’aide de la formule suiv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EPFL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– 37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UNIL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-12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it le plus petit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9440" y="5759280"/>
            <a:ext cx="1511280" cy="7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132000" y="4137120"/>
            <a:ext cx="3527640" cy="722160"/>
            <a:chOff x="3132000" y="4137120"/>
            <a:chExt cx="3527640" cy="722160"/>
          </a:xfrm>
        </p:grpSpPr>
        <p:sp>
          <p:nvSpPr>
            <p:cNvPr id="143" name=""/>
            <p:cNvSpPr/>
            <p:nvPr/>
          </p:nvSpPr>
          <p:spPr>
            <a:xfrm>
              <a:off x="3133800" y="4138560"/>
              <a:ext cx="3525840" cy="719280"/>
            </a:xfrm>
            <a:prstGeom prst="rect">
              <a:avLst/>
            </a:prstGeom>
            <a:gradFill rotWithShape="0">
              <a:gsLst>
                <a:gs pos="0">
                  <a:srgbClr val="c90792"/>
                </a:gs>
                <a:gs pos="100000">
                  <a:srgbClr val="e309a5">
                    <a:alpha val="1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2000" y="4137120"/>
              <a:ext cx="352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0" y="4857840"/>
              <a:ext cx="352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32000" y="4137120"/>
              <a:ext cx="180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57840" y="4137120"/>
              <a:ext cx="180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Optimisation des paramètre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403280" y="1413000"/>
            <a:ext cx="3119400" cy="3598560"/>
            <a:chOff x="1403280" y="1413000"/>
            <a:chExt cx="3119400" cy="3598560"/>
          </a:xfrm>
        </p:grpSpPr>
        <p:sp>
          <p:nvSpPr>
            <p:cNvPr id="150" name=""/>
            <p:cNvSpPr/>
            <p:nvPr/>
          </p:nvSpPr>
          <p:spPr>
            <a:xfrm>
              <a:off x="3521160" y="4748040"/>
              <a:ext cx="10000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1.26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35120" y="4748040"/>
              <a:ext cx="986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03280" y="4748040"/>
              <a:ext cx="1131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21160" y="4486320"/>
              <a:ext cx="10000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3.77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35120" y="4486320"/>
              <a:ext cx="9860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03280" y="4486320"/>
              <a:ext cx="1131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21160" y="4222800"/>
              <a:ext cx="10000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9.6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35120" y="4222800"/>
              <a:ext cx="9860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03280" y="4222800"/>
              <a:ext cx="1131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21160" y="3960720"/>
              <a:ext cx="10000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9.12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35120" y="3960720"/>
              <a:ext cx="986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03280" y="3960720"/>
              <a:ext cx="1131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21160" y="3699000"/>
              <a:ext cx="10000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9.64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3699000"/>
              <a:ext cx="9860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03280" y="3699000"/>
              <a:ext cx="1131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21160" y="3436920"/>
              <a:ext cx="10000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3.2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35120" y="3436920"/>
              <a:ext cx="986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03280" y="3436920"/>
              <a:ext cx="1131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21160" y="3174840"/>
              <a:ext cx="10000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46.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35120" y="3174840"/>
              <a:ext cx="986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03280" y="3174840"/>
              <a:ext cx="1131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21160" y="2911320"/>
              <a:ext cx="10000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7.8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35120" y="2911320"/>
              <a:ext cx="9860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03280" y="2911320"/>
              <a:ext cx="1131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21160" y="2649600"/>
              <a:ext cx="10000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8.06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35120" y="2649600"/>
              <a:ext cx="9860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03280" y="2649600"/>
              <a:ext cx="1131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21160" y="2462040"/>
              <a:ext cx="100008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86.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35120" y="2462040"/>
              <a:ext cx="9860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03280" y="2462040"/>
              <a:ext cx="11318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21160" y="2200320"/>
              <a:ext cx="10000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72.5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35120" y="2200320"/>
              <a:ext cx="9860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03280" y="2200320"/>
              <a:ext cx="1131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21160" y="1936800"/>
              <a:ext cx="10000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997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35120" y="1936800"/>
              <a:ext cx="9860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03280" y="1936800"/>
              <a:ext cx="1131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21160" y="1674720"/>
              <a:ext cx="10000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407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35120" y="1674720"/>
              <a:ext cx="986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03280" y="1674720"/>
              <a:ext cx="1131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21160" y="1413000"/>
              <a:ext cx="10000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û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35120" y="1413000"/>
              <a:ext cx="9860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ct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03280" y="1413000"/>
              <a:ext cx="1131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ct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03280" y="1413000"/>
              <a:ext cx="31179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03280" y="5010120"/>
              <a:ext cx="31179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03280" y="1413000"/>
              <a:ext cx="1800" cy="3597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21240" y="1413000"/>
              <a:ext cx="1440" cy="3597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003640" y="1484280"/>
            <a:ext cx="3119760" cy="3602160"/>
            <a:chOff x="5003640" y="1484280"/>
            <a:chExt cx="3119760" cy="3602160"/>
          </a:xfrm>
        </p:grpSpPr>
        <p:sp>
          <p:nvSpPr>
            <p:cNvPr id="198" name=""/>
            <p:cNvSpPr/>
            <p:nvPr/>
          </p:nvSpPr>
          <p:spPr>
            <a:xfrm>
              <a:off x="7121520" y="485928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1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35840" y="485928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8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03640" y="485928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32958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21520" y="463392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.56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35840" y="463392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03640" y="463392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21520" y="440856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.99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35840" y="440856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03640" y="440856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21520" y="418320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.26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35840" y="418320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9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03640" y="418320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21520" y="3954600"/>
              <a:ext cx="10000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.4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35840" y="3954600"/>
              <a:ext cx="9856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03640" y="3954600"/>
              <a:ext cx="11322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21520" y="3728880"/>
              <a:ext cx="1000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.04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35840" y="3728880"/>
              <a:ext cx="9856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03640" y="3728880"/>
              <a:ext cx="11322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21520" y="350352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2.33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35840" y="350352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8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03640" y="350352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21520" y="327816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.44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35840" y="327816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9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03640" y="327816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21520" y="305280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.8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35840" y="305280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9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03640" y="305280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21520" y="282744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6.35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35840" y="282744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9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03640" y="282744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21520" y="260208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7.27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35840" y="260208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9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03640" y="260208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21520" y="2376360"/>
              <a:ext cx="1000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6.8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35840" y="2376360"/>
              <a:ext cx="9856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9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03640" y="2376360"/>
              <a:ext cx="11322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1520" y="2149560"/>
              <a:ext cx="10000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1.48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35840" y="2149560"/>
              <a:ext cx="9856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20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03640" y="2149560"/>
              <a:ext cx="11322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21520" y="1935000"/>
              <a:ext cx="10000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8.7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35840" y="1935000"/>
              <a:ext cx="9856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2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03640" y="1935000"/>
              <a:ext cx="11322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21520" y="170964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.88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35840" y="170964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2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03640" y="170964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21520" y="148428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û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35840" y="148428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03640" y="148428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03640" y="1484280"/>
              <a:ext cx="311796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03640" y="5084640"/>
              <a:ext cx="311796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03640" y="1484280"/>
              <a:ext cx="1800" cy="360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121600" y="1484280"/>
              <a:ext cx="1800" cy="360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759280" y="5940360"/>
            <a:ext cx="2675160" cy="601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403280" y="6083280"/>
            <a:ext cx="4768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0440" indent="-127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07920"/>
                <a:tab algn="l" pos="1357200"/>
                <a:tab algn="l" pos="1806480"/>
                <a:tab algn="l" pos="2255760"/>
                <a:tab algn="l" pos="2705040"/>
                <a:tab algn="l" pos="3154320"/>
                <a:tab algn="l" pos="3603600"/>
                <a:tab algn="l" pos="4052880"/>
                <a:tab algn="l" pos="4502160"/>
                <a:tab algn="l" pos="4951440"/>
                <a:tab algn="l" pos="5400720"/>
                <a:tab algn="l" pos="5850000"/>
                <a:tab algn="l" pos="6299280"/>
                <a:tab algn="l" pos="6748560"/>
                <a:tab algn="l" pos="7197840"/>
                <a:tab algn="l" pos="7647120"/>
                <a:tab algn="l" pos="8096400"/>
                <a:tab algn="l" pos="8545680"/>
                <a:tab algn="l" pos="8994600"/>
                <a:tab algn="l" pos="944388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Formule d'optimisation des paramètr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Paramètres de la vaccination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32000" y="1412640"/>
            <a:ext cx="638784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es paramètres u et v de la vaccin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ient à t = 18, S(0) = 2500 et S(18) = 1000, on 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S/d(t) = - v · S(t)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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v = -log(S(t)/2500)/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el que 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v = 0.050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t 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u =  efficacité du vaccin = 9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960640" y="3672000"/>
            <a:ext cx="3772080" cy="116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Dynamique des population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140360" cy="30369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865680" cy="3025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84360" y="1341360"/>
            <a:ext cx="2928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ynamique sans vac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1341360"/>
            <a:ext cx="2928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ynamique avec vac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38880" y="4869000"/>
            <a:ext cx="543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j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-465480" y="2968200"/>
            <a:ext cx="1789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ombre de person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3637800" y="3107880"/>
            <a:ext cx="1789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ombre de person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75960" y="4797360"/>
            <a:ext cx="543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j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8360" y="4643280"/>
            <a:ext cx="431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8956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4720"/>
                <a:tab algn="l" pos="9414000"/>
                <a:tab algn="l" pos="986328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2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   4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6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 8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10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1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3280" y="4608360"/>
            <a:ext cx="4140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8956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4720"/>
                <a:tab algn="l" pos="9414000"/>
                <a:tab algn="l" pos="986328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2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4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6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8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10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1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00720" y="1671480"/>
            <a:ext cx="539640" cy="30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25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2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15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1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5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1697040"/>
            <a:ext cx="53964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25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2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15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1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5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60720" y="1979640"/>
            <a:ext cx="360360" cy="181080"/>
          </a:xfrm>
          <a:prstGeom prst="leftArrow">
            <a:avLst>
              <a:gd name="adj1" fmla="val 50000"/>
              <a:gd name="adj2" fmla="val 49751"/>
            </a:avLst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95640" y="360036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32000" y="4211640"/>
            <a:ext cx="181080" cy="181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ae00"/>
          </a:solidFill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1881360"/>
            <a:ext cx="9000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S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3816360"/>
            <a:ext cx="90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I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19280" y="3502080"/>
            <a:ext cx="5396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R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08720" y="4356000"/>
            <a:ext cx="180720" cy="181080"/>
          </a:xfrm>
          <a:prstGeom prst="downArrow">
            <a:avLst>
              <a:gd name="adj1" fmla="val 50000"/>
              <a:gd name="adj2" fmla="val 25050"/>
            </a:avLst>
          </a:prstGeom>
          <a:solidFill>
            <a:srgbClr val="00ae00"/>
          </a:solidFill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35640" y="3959280"/>
            <a:ext cx="90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I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00720" y="1979640"/>
            <a:ext cx="360360" cy="181080"/>
          </a:xfrm>
          <a:prstGeom prst="leftArrow">
            <a:avLst>
              <a:gd name="adj1" fmla="val 50000"/>
              <a:gd name="adj2" fmla="val 49751"/>
            </a:avLst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3637080"/>
            <a:ext cx="360360" cy="180720"/>
          </a:xfrm>
          <a:prstGeom prst="leftArrow">
            <a:avLst>
              <a:gd name="adj1" fmla="val 50000"/>
              <a:gd name="adj2" fmla="val 4985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32360" y="1881360"/>
            <a:ext cx="90036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S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48360" y="3502080"/>
            <a:ext cx="5396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R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Effet de la vaccination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0200" y="5761080"/>
            <a:ext cx="172872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859280" y="1589040"/>
            <a:ext cx="4073760" cy="34704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65120" y="1619280"/>
            <a:ext cx="4035600" cy="3443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884240" y="5067360"/>
            <a:ext cx="73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a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61000" y="5067360"/>
            <a:ext cx="73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a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-1425600" y="3429000"/>
            <a:ext cx="3421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ombre de personnes infectées chaque j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0320" y="1341360"/>
            <a:ext cx="2402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ynamique avec vac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4040" y="1341360"/>
            <a:ext cx="24073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ynamique sans vac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19280" y="2700360"/>
            <a:ext cx="181080" cy="36036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028000" y="4365720"/>
            <a:ext cx="72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PF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00360" y="1989000"/>
            <a:ext cx="1620720" cy="1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L+EPF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35280" y="4437000"/>
            <a:ext cx="8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0000" y="4500720"/>
            <a:ext cx="360360" cy="180720"/>
          </a:xfrm>
          <a:prstGeom prst="leftArrow">
            <a:avLst>
              <a:gd name="adj1" fmla="val 50000"/>
              <a:gd name="adj2" fmla="val 498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40000" y="1979640"/>
            <a:ext cx="360360" cy="181080"/>
          </a:xfrm>
          <a:prstGeom prst="leftArrow">
            <a:avLst>
              <a:gd name="adj1" fmla="val 50000"/>
              <a:gd name="adj2" fmla="val 497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8560" y="2160720"/>
            <a:ext cx="1620720" cy="1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L+EPF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91280" y="3240000"/>
            <a:ext cx="8287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32000" y="3068640"/>
            <a:ext cx="9000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PF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80360" y="3959280"/>
            <a:ext cx="181080" cy="36036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099280" y="324000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99280" y="2160720"/>
            <a:ext cx="360360" cy="180720"/>
          </a:xfrm>
          <a:prstGeom prst="rightArrow">
            <a:avLst>
              <a:gd name="adj1" fmla="val 50000"/>
              <a:gd name="adj2" fmla="val 498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9640" y="1800360"/>
            <a:ext cx="3888000" cy="1440"/>
          </a:xfrm>
          <a:prstGeom prst="line">
            <a:avLst/>
          </a:prstGeom>
          <a:ln w="19080">
            <a:solidFill>
              <a:srgbClr val="e309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905000" y="4719600"/>
            <a:ext cx="3940200" cy="1800"/>
          </a:xfrm>
          <a:prstGeom prst="line">
            <a:avLst/>
          </a:prstGeom>
          <a:ln w="19080">
            <a:solidFill>
              <a:srgbClr val="e309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8000" y="1773360"/>
            <a:ext cx="3952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309a5"/>
                </a:solidFill>
                <a:latin typeface="Times New Roman"/>
              </a:rPr>
              <a:t>12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4653000"/>
            <a:ext cx="3952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309a5"/>
                </a:solidFill>
                <a:latin typeface="Times New Roman"/>
              </a:rPr>
              <a:t>12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3074760" y="2889000"/>
            <a:ext cx="3421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ombre de personnes infectées chaque j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24360" y="4930920"/>
            <a:ext cx="41403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8956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4720"/>
                <a:tab algn="l" pos="9414000"/>
                <a:tab algn="l" pos="986328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2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   3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4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 5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6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79640" y="5759280"/>
            <a:ext cx="1440" cy="181080"/>
          </a:xfrm>
          <a:prstGeom prst="smileyFace">
            <a:avLst>
              <a:gd name="adj" fmla="val 465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0360" y="4932360"/>
            <a:ext cx="41403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8956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4720"/>
                <a:tab algn="l" pos="9414000"/>
                <a:tab algn="l" pos="986328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2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     3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4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   5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6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0360" y="1836720"/>
            <a:ext cx="36036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51280" y="1728720"/>
            <a:ext cx="360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18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16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14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12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0000" y="1440000"/>
            <a:ext cx="72007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Résultat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mbre de personnes infectées selon nos donnée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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9 person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mbre de personnes infectées selon notre modèl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 avec campagne 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8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± 1 person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sans campagne 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413 personnes (risques encour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%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de personnes épargnées 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88.38%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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365 personn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Vaccination efficace et recommandée selon notre modè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580000" y="333000"/>
            <a:ext cx="23623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Objectif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0000" y="1503000"/>
            <a:ext cx="720072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tudier le modèle simple 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pliquer et Interprèter le modèle SIR sur un 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’épidémie actuel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200" spc="-1" strike="noStrike">
                <a:solidFill>
                  <a:srgbClr val="000000"/>
                </a:solidFill>
                <a:latin typeface="Comic Sans MS"/>
              </a:rPr>
              <a:t>Epidémie de la Rougeole à l'Unil-EPF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dapter ce modèle à notre cas particulier afin d’évalu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 les risques encou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 efficacité de la campagne de vaccinatio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1440" y="1371600"/>
            <a:ext cx="5721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87280" y="1628640"/>
            <a:ext cx="144720" cy="144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213372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407664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72360" y="5805360"/>
            <a:ext cx="971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5A06-0416-4E72-9E22-740C222E9CE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1280" y="57592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60360" y="1440000"/>
            <a:ext cx="774072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imites du modèl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just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Le nombre de personnes infectées chaque jour de notre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modè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just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e réflétent pas la réalité de nos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donné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just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Lors de la 3ème semaine par exemple, on a pic d'activité qui p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just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u simple au double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979640" y="1800360"/>
            <a:ext cx="5761080" cy="34210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4500720" y="5189400"/>
            <a:ext cx="73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a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6200000">
            <a:off x="370080" y="3360240"/>
            <a:ext cx="3368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ombre de personnes infectées chaque j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60720" y="5075280"/>
            <a:ext cx="611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8956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4720"/>
                <a:tab algn="l" pos="9414000"/>
                <a:tab algn="l" pos="986328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     2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    3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  4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5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6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24000" y="1914480"/>
            <a:ext cx="36036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19280" y="3240000"/>
            <a:ext cx="1081080" cy="1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UNIL+EPF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3456000"/>
            <a:ext cx="181080" cy="36036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203640" y="2769480"/>
            <a:ext cx="288720" cy="36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ff0000"/>
          </a:solidFill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40360" y="3456000"/>
            <a:ext cx="468360" cy="1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PF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0" y="3419640"/>
            <a:ext cx="360360" cy="180720"/>
          </a:xfrm>
          <a:prstGeom prst="leftArrow">
            <a:avLst>
              <a:gd name="adj1" fmla="val 50000"/>
              <a:gd name="adj2" fmla="val 49851"/>
            </a:avLst>
          </a:prstGeom>
          <a:solidFill>
            <a:srgbClr val="ff0000"/>
          </a:solidFill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11640" y="3780000"/>
            <a:ext cx="181080" cy="36036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56000" y="5327640"/>
            <a:ext cx="468360" cy="1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UN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08360" y="4716360"/>
            <a:ext cx="181080" cy="36036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92360" y="4859280"/>
            <a:ext cx="181080" cy="36036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1280" y="57592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60360" y="1440000"/>
            <a:ext cx="77407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imites du modèl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just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On ne peut estimer précisemment le nombre exact d'infec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just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un jour donnée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just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éanmois, notre modèle suffit à prédire que ce pic d'activit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just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e déroulera lors de la 3 semaine et à estimer la fin de l'épidém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908000" y="1792440"/>
            <a:ext cx="5653440" cy="36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Perspective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11080" y="1439640"/>
            <a:ext cx="6568920" cy="34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-11448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résence des étudiants sur le site que 5 jours de la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maine sur les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enir compte des flux extérieurs à notre systè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terpreter l’influence que le TSOL pourrait avoir comme lieu à hauts risques de contamination, en considérant le TSOL comme 3ème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Annexe : codes du modèle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42920" y="1267920"/>
            <a:ext cx="367344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ction y=f(x,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= 0.008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=0.000232958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=2/1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=0.95;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=0.050905;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(t&gt;=14 &amp; t&lt;=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# Site de l'Unil avec x(1),x(2),x(3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1)=-r*x(1)*x(2) + s*(-x(1)+x(4)) -u*v*x(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2)=r*x(1)*x(2)-a*x(2) + s*(-x(2)+x(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3)=a*x(2) + s*(-x(3)+x(6)) + u*v*x(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# Site EPFL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4) = -r*x(4)*x(5) +  s*(x(1)-x(4)) - u*v*x(4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5) = r*x(4)*x(5)-a*x(5) + s*(x(2)-x(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6) = a*x(5) +  s*(x(3)-x(6)) + u*v*x(4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00720" y="1197000"/>
            <a:ext cx="421164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4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4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# Site de l'Unil avec x(1),x(2),x(3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1)=-r*x(1)*x(2) + s*(-x(1)+x(4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2)=r*x(1)*x(2)-a*x(2) + s*(-x(2)+x(5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3)=a*x(2) + s*(-x(3)+x(6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# Site EPF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4) = -r*x(4)*x(5) +  s*(x(1)-x(4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5) = r*x(4)*x(5)-a*x(5) + s*(x(2)-x(5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6) = a*x(5) +  s*(x(3)-x(6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’épidémie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316872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’épidémi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, qu’est-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act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e épidémie signi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e augmentation ra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 l’incidence d’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athologie en un lie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t sur un mo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nn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211640" y="1798560"/>
            <a:ext cx="4608360" cy="3176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651640" y="5041800"/>
            <a:ext cx="1728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ombre de j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2828160" y="3240000"/>
            <a:ext cx="2472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ombre de personnes infect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4896000"/>
            <a:ext cx="486072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8956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4720"/>
                <a:tab algn="l" pos="9414000"/>
                <a:tab algn="l" pos="986328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0                        2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4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8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10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1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03640" y="2139840"/>
            <a:ext cx="36036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19640" y="1368360"/>
            <a:ext cx="4319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omic Sans MS"/>
              </a:rPr>
              <a:t>Nombre de personnes infectées 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Comic Sans MS"/>
              </a:rPr>
              <a:t>présentes sur le campus à un temps donn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ntérêts du modèle SIR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4360" y="1079640"/>
            <a:ext cx="639468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 modèle SIR permet de 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57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isualiser graphiquement la propagation d’une maladie au sein d’un espace clos et son év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57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'évaluer et prévoir les risques d'épidémie, sa durée ainsi que son pic d'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5734080"/>
            <a:ext cx="1800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e modèle simple SIR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4360" y="1460160"/>
            <a:ext cx="6713640" cy="33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e système dyna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S(t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nombre de personne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aines susceptibl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de contracter la mal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(t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nombres d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ersonnes infecté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R(t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nombre d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ersonnes immunisé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ou décéd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5734080"/>
            <a:ext cx="136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35280" y="4076640"/>
            <a:ext cx="5648040" cy="9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e modèle simple SIR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9440" y="5759280"/>
            <a:ext cx="1511280" cy="7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1700280"/>
            <a:ext cx="3672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 indent="-303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e système dynam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dS/d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-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(t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dI/d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(t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(t) -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dR/d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64000" y="1700280"/>
            <a:ext cx="320364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 indent="-303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es paramèt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 : taux de conta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vitesse de transmis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: taux de guér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2565360"/>
            <a:ext cx="252360" cy="1800360"/>
          </a:xfrm>
          <a:custGeom>
            <a:avLst/>
            <a:gdLst>
              <a:gd name="textAreaLeft" fmla="*/ 161280 w 252360"/>
              <a:gd name="textAreaRight" fmla="*/ 252720 w 252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Perfectionnement du modèle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671364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us avons améliorer le modèle de manière à pren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n considé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e flux des personn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qui se déplacent entre les sites de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NIL-EPF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a campagne de vaccina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du lundi 23 mars au vendredi 11 avril soit 19 j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e modèle amélioré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79640" y="1260360"/>
            <a:ext cx="7559640" cy="41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601280" y="1842840"/>
            <a:ext cx="660564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Le flux de personnes entre les 2 sit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3645000"/>
            <a:ext cx="57610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63640" y="4211640"/>
            <a:ext cx="64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 = flux de personnes qui transitent entre les 2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4720" y="379440"/>
            <a:ext cx="63946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e modèle amélior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71640" y="2519280"/>
            <a:ext cx="4284720" cy="115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résentation PowerPoint</dc:title>
</cp:coreProperties>
</file>